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9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612B-DBE1-46D2-B144-F32403632311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One contractor severely criticized for charging $25,000 per coffee pot in airplanes built for the governmen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t - requirements for coffee pot were so stringent that the plane could have crashed and yet no coffee could spill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t cost a great deal to develop the coffee pot and to verify that it met its requirement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ach copy had to be built to a stringent design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AA04-6D74-41B7-8091-5FB4E4A46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237D-EC4D-4416-B6AB-BF4AFC08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572E-0019-43D9-8559-4E609F89B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4909-D3D5-4205-8B68-0B835E750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6327-1949-4898-9D52-422AD6617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06BE-6C63-446A-AD3E-376999C9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85C9-8088-4672-8CE8-C064E5B9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AD9C-085F-4413-8539-F80213CC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8714-9AF2-4C02-8D61-700BF3D5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96B6-2A40-405C-907A-BA612630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D7A3-4C5F-45D0-AF86-DAEEE475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8E1E-B68E-46D7-ADA4-0699D3EC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47A7-3FAD-4B6E-A605-E2AAFC9C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6C6E-B8B8-4E46-9BB3-0EB9D4AC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59DE-A35D-43D9-A59F-F183D8EF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07A5-BAB8-4108-8B1E-833B30B71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02E3-AD6C-4483-92D0-0D92DA72C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3FBE-A2B3-4B87-859D-5D5930CC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393D-9FBC-439E-A7CD-3D264E06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D7A2-D863-4B35-8D7B-476F6D94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F99D-86E7-4AFD-B9F5-9C21C300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0434-2F22-4F40-8FE7-9C60C445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24CC-F32C-451F-9067-0A86B93C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9330-7FEB-4F36-91FF-DD658F54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3FD0-04FF-4013-85C6-0607B9353C03}" type="datetime5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Jul 30, 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AF66-AADB-4B42-8C28-D6F064932729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2940-BDEB-477C-A37F-1CF4B60C5B7D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complianceautomation.com/papers/writingreqs.htm" TargetMode="External"/><Relationship Id="rId3" Type="http://schemas.openxmlformats.org/officeDocument/2006/relationships/hyperlink" Target="http://www.complianceautomation.com/papers/writingreqs.htm" TargetMode="External"/><Relationship Id="rId4" Type="http://schemas.openxmlformats.org/officeDocument/2006/relationships/hyperlink" Target="http://www.complianceautomation.com/papers/ManagingRequirements.pdf" TargetMode="External"/><Relationship Id="rId5" Type="http://schemas.openxmlformats.org/officeDocument/2006/relationships/hyperlink" Target="http://www.complianceautomation.com/papers/incose_goodreqs.pdf" TargetMode="External"/><Relationship Id="rId6" Type="http://schemas.openxmlformats.org/officeDocument/2006/relationships/hyperlink" Target="http://www.complianceautomation.com/papers/ACaseforPriority.pdf" TargetMode="Externa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unctional Requiremen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205 Software Engineer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mester One 2006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5418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st of error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54752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7160" y="63072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Functional Requirements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Functional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requirements describe what the system does (capabilities)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Eg, “The system shall enroll students in courses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7160" y="63072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Non-functional Requirements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Non-functional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requirements describe what the system has (physical characteristics)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Include reliability, quality, safety, maintainability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9151920" cy="6193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492360" y="6597720"/>
            <a:ext cx="56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ffffcc"/>
                </a:solidFill>
                <a:latin typeface="Times New Roman"/>
              </a:rPr>
              <a:t>Sommerville, I., Software Engineering. 6</a:t>
            </a:r>
            <a:r>
              <a:rPr b="0" lang="en-NZ" sz="1600" spc="-1" strike="noStrike" baseline="30000">
                <a:solidFill>
                  <a:srgbClr val="ffffcc"/>
                </a:solidFill>
                <a:latin typeface="Times New Roman"/>
              </a:rPr>
              <a:t>th</a:t>
            </a:r>
            <a:r>
              <a:rPr b="0" lang="en-NZ" sz="1600" spc="-1" strike="noStrike">
                <a:solidFill>
                  <a:srgbClr val="ffffcc"/>
                </a:solidFill>
                <a:latin typeface="Times New Roman"/>
              </a:rPr>
              <a:t> edn, Pearson, 2001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7160" y="77832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Qualities of good requirements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60440" y="1941480"/>
            <a:ext cx="62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cessa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erifiab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ttainab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ea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ple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sist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5418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ecessa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stated requirement is an essential capability, physical characteristic, or quality factor of the product or process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f it is removed or deleted, a deficiency will exist, which cannot be fulfilled by other capabilities of the product or proces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7160" y="5418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Verifiabl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stated requirement is not vague or general but is quantified in a manner that can be verified by one of these 4 alternative methods: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spection,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nalysis,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monstration or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est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fine measure when writing requirement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7160" y="5418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ttainabl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stated requirement can be achieved at a definable cost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echnically feasib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etermine by analysi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ts within budge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ts schedu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7160" y="5418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ea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ach requirement expresses a single thought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t is concise and simpl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asy to read and understand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7160" y="5418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mplet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ach requirement is standalon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 explanation should be necessary in the requirements docu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planations may be in other documentation, i.e. analysi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cc00"/>
                </a:solidFill>
                <a:latin typeface="Arial"/>
              </a:rPr>
              <a:t>Where are we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916360" y="1844640"/>
            <a:ext cx="389880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7160" y="5418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sist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stated requirement does not contradict other requirements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t is not a duplicate of another requirement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same term is used for the same item in all requirement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7160" y="5418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mmon Problem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34680" y="1941480"/>
            <a:ext cx="700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nguage us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ow” not “what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oor assumpt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perations not requireme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ish lis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verstring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plex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7160" y="229680"/>
            <a:ext cx="8637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Language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Each requirement can usually be written in the format: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The System shall provide ........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The System shall be capable of ........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The Subsystem #1 shall provide ........</a:t>
            </a: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The Subsystem #2 shall interface with .....</a:t>
            </a: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ach phrase is followed by a statement of what the system do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17160" y="229680"/>
            <a:ext cx="8637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Language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vent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hall”  - used for requiremen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ill” – statements of fac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hould” - goa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7160" y="63072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Language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voi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re”, “is”, “was”, “must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upport” (as in “system will support backups”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ut not limited to”, “etc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nd/or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s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7160" y="586800"/>
            <a:ext cx="863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Ambiguous Language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nnot cost unknown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f requirement is not definable, it may need to go back to analysis stag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7160" y="586800"/>
            <a:ext cx="863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Ambiguous Language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Avoid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Minimize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 /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Maximize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Rapid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User-friendly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Easy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Sufficient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Adequate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Quick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7160" y="5418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ffcc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How” not “What”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void describing implementation in requirement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g,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“provide a database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eferable: 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“provide capability for storing, displaying and sorting customer data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y result in a database, but allows other possibilit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7160" y="5418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ffcc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oor assumptio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f insufficient information available – poor requirements will be writte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velopers make assumptions about missing inform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cument ful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cument assumptio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7160" y="5418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ffcc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peratio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void describing the use of the system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g, 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“System shall allow user to open a dialogue box and enter data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eferable: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  “system shall allow data entry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cc00"/>
                </a:solidFill>
                <a:latin typeface="Arial"/>
              </a:rPr>
              <a:t>Functional delive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124000" y="2060640"/>
            <a:ext cx="466560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7160" y="5418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ffcc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ish Lis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quirements must be realistic, not a list of “nice to have” featur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se prioritising to clarify with cli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17160" y="5418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rioritisin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First set of requirements often a wish lis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t is too long and imprecise to be practically implemente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finements and clarifications are negotiated during the course of a projec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dditional requirements or changes to existing requirements are identified in the normal course of engineering a solu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ot all requirements are created equ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17160" y="30132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Not all requirements are created equal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rioritising Requirement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o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en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velope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takeholde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7160" y="586800"/>
            <a:ext cx="863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Prioritising Requirements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Essential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” requirements are those that must be included in the syste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Useful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” requirements are those that would reduce system effectiveness if left ou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Desirable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” requirements are those that are not part of the core, but make the system more attractive to the users prioritie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7160" y="586800"/>
            <a:ext cx="863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Prioritising Requirements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ioritizing is beneficial to the project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mproved customer satisfaction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pectations are more realistic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asier to correlate requirements delivered with schedule deadline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ffcc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verstringent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g airline coffee po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oo much detai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creases costs and complexity of developmen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722920" y="2036880"/>
            <a:ext cx="1600200" cy="1790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508280" y="4074840"/>
            <a:ext cx="4028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ver Stringent Requiremen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050920" y="2781000"/>
            <a:ext cx="6486480" cy="32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se common sen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17160" y="5418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Writing good requirements is difficult, requires careful thinking and analysis, but is not magica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quirements which have these characteristics will be easier to meet and help insure that the customer gets what he wants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ime spent up front, carefully defining and articulating the requirements is the first step towards insuring a high quality product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7160" y="5418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Arial"/>
                <a:hlinkClick r:id="rId3"/>
              </a:rPr>
              <a:t>www.complianceautomation.com/papers/writingreqs.htm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Arial"/>
                <a:hlinkClick r:id="rId4"/>
              </a:rPr>
              <a:t>http://www.complianceautomation.com/papers/ManagingRequirements.pdf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Arial"/>
                <a:hlinkClick r:id="rId5"/>
              </a:rPr>
              <a:t>http://www.complianceautomation.com/papers/incose_goodreqs.pdf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Arial"/>
                <a:hlinkClick r:id="rId6"/>
              </a:rPr>
              <a:t>http://www.complianceautomation.com/papers/ACaseforPriority.pdf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cc00"/>
                </a:solidFill>
                <a:latin typeface="Arial"/>
              </a:rPr>
              <a:t>Functional delive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568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Evaluation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Project estimation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Functional 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Functional requirements document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Design concepts 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Design concepts presentation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Design specs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Design specification (style 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guide etc),   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Stable development platform: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Implementation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 u="sng">
                <a:solidFill>
                  <a:srgbClr val="ffffcc"/>
                </a:solidFill>
                <a:uFillTx/>
                <a:latin typeface="Arial"/>
              </a:rPr>
              <a:t>Functional deliverable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(Release Two).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Evaluation 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Analysis of functional 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ffffcc"/>
                </a:solidFill>
                <a:latin typeface="Arial"/>
              </a:rPr>
              <a:t>deliverable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580000" y="115920"/>
            <a:ext cx="33847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32000" y="511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Arial"/>
              </a:rPr>
              <a:t>Functional requirement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0" t="13961" r="0" b="30192"/>
          <a:stretch/>
        </p:blipFill>
        <p:spPr>
          <a:xfrm>
            <a:off x="971640" y="907920"/>
            <a:ext cx="74293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rcRect l="0" t="13961" r="0" b="30192"/>
          <a:stretch/>
        </p:blipFill>
        <p:spPr>
          <a:xfrm>
            <a:off x="0" y="0"/>
            <a:ext cx="2879640" cy="21207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16360" y="4510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Arial"/>
              </a:rPr>
              <a:t>Functional requirement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rcRect l="0" t="69812" r="0" b="-6542"/>
          <a:stretch/>
        </p:blipFill>
        <p:spPr>
          <a:xfrm>
            <a:off x="539640" y="2637000"/>
            <a:ext cx="831708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5421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NewRomanPS-BoldMT"/>
              </a:rPr>
              <a:t>Requirement. </a:t>
            </a:r>
            <a:r>
              <a:rPr b="0" lang="en-US" sz="3200" spc="-1" strike="noStrike">
                <a:solidFill>
                  <a:srgbClr val="ffffcc"/>
                </a:solidFill>
                <a:latin typeface="TimesNewRomanPSMT"/>
              </a:rPr>
              <a:t>A statement identifying a capability, physical characteristic, or quality factor that bounds a product or process need for which a solution will be pursued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7160" y="5418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ailure to manage requirements can lead t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st overru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hanging requiremen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Especially if they were not right in the first plac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5418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EEE study on requirement errors showed that;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20% due to ambiguities and inconsistenc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31% due to omissio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49% due to incorrect fac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aused by incorrect assumption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6:53:54Z</dcterms:created>
  <dc:creator>Smith</dc:creator>
  <dc:description/>
  <dc:language>en-US</dc:language>
  <cp:lastModifiedBy>LSMITH</cp:lastModifiedBy>
  <dcterms:modified xsi:type="dcterms:W3CDTF">2006-03-20T21:01:33Z</dcterms:modified>
  <cp:revision>12</cp:revision>
  <dc:subject/>
  <dc:title>Introduction</dc:title>
</cp:coreProperties>
</file>